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42.png" ContentType="image/png"/>
  <Override PartName="/ppt/media/image22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25.gif" ContentType="image/gif"/>
  <Override PartName="/ppt/media/image6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3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4.jpeg" ContentType="image/jpeg"/>
  <Override PartName="/ppt/media/image36.png" ContentType="image/png"/>
  <Override PartName="/ppt/media/image40.jpeg" ContentType="image/jpeg"/>
  <Override PartName="/ppt/media/image44.png" ContentType="image/png"/>
  <Override PartName="/ppt/media/image4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4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30D-EB69-4C71-9CB2-884CA875C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9B42-4213-409D-952D-68FEF5F41C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79F-60E1-43AE-8A46-C202FEA9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EA2-217C-4F44-8435-E4CFEAE1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F79-F9F1-426D-B420-1952E3B5B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68F-067A-4C4E-B964-39AA7F08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B78F-8DD6-4CDF-9922-C55159EA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C62-D1D6-49F2-B672-AC5AECCE4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517C-E1F0-496F-A6BC-9176518C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95D-C186-4DFB-93EC-334D8A36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ADC-D194-4B27-9139-B20FCD36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8AD-9E26-48BA-9621-22916914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64A-16D4-4A2F-A756-D0A6508A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EC68-CF05-4281-BE78-2749E0E7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D77A8-D1DA-4C20-9917-842EDCD86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79280" y="5516280"/>
            <a:ext cx="51814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. др Владимир Јаковље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1935720" y="1197000"/>
            <a:ext cx="531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тергисане академске студије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971640" y="2708280"/>
            <a:ext cx="748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наставна јединиц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рећ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 недеља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зиологија ср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0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зу деполаризациј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он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роз брзе, волтаж-зависне натријумске канале (натријумска струја,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при чему вердност мембранског потенцијала тежи да достигне равнотежни потенцијал з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2708280" y="3213000"/>
            <a:ext cx="3727440" cy="3456000"/>
          </a:xfrm>
          <a:prstGeom prst="rect">
            <a:avLst/>
          </a:prstGeom>
          <a:ln w="0">
            <a:noFill/>
          </a:ln>
        </p:spPr>
      </p:pic>
      <p:sp>
        <p:nvSpPr>
          <p:cNvPr id="86" name="Oval 7"/>
          <p:cNvSpPr/>
          <p:nvPr/>
        </p:nvSpPr>
        <p:spPr>
          <a:xfrm>
            <a:off x="3635280" y="4653000"/>
            <a:ext cx="2890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"/>
          <p:cNvSpPr/>
          <p:nvPr/>
        </p:nvSpPr>
        <p:spPr>
          <a:xfrm>
            <a:off x="3348000" y="602136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5075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четну (иницијалну) р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тварања канала за натриј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услед чега се смањује количина позитивног наелектрисања које улази у ћелију,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тварања канала за калију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услед чега се повећава количина позитивног наелектрисања које излази из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3041640" y="3141720"/>
            <a:ext cx="3060720" cy="2844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3041640" y="5950080"/>
            <a:ext cx="3060720" cy="507960"/>
          </a:xfrm>
          <a:prstGeom prst="rect">
            <a:avLst/>
          </a:prstGeom>
          <a:ln w="0">
            <a:noFill/>
          </a:ln>
        </p:spPr>
      </p:pic>
      <p:sp>
        <p:nvSpPr>
          <p:cNvPr id="92" name="Oval 7"/>
          <p:cNvSpPr/>
          <p:nvPr/>
        </p:nvSpPr>
        <p:spPr>
          <a:xfrm>
            <a:off x="3924360" y="314172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8"/>
          <p:cNvSpPr/>
          <p:nvPr/>
        </p:nvSpPr>
        <p:spPr>
          <a:xfrm>
            <a:off x="3708360" y="5445000"/>
            <a:ext cx="2872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9"/>
          <p:cNvSpPr/>
          <p:nvPr/>
        </p:nvSpPr>
        <p:spPr>
          <a:xfrm>
            <a:off x="3708360" y="6093000"/>
            <a:ext cx="2872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2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лато фаз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акцион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пролазн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пустљивос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мембране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услед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ријег и продуженог отварања волтаж-зависних канала за калцијум и уласк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кардиомиоците (C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труја, I</a:t>
            </a:r>
            <a:r>
              <a:rPr b="0" lang="sr-CS" sz="2000" spc="-1" strike="noStrike" baseline="-25000">
                <a:solidFill>
                  <a:srgbClr val="000000"/>
                </a:solidFill>
                <a:latin typeface="Arial"/>
              </a:rPr>
              <a:t>C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, као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водљивост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384720" cy="2465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5076720" y="5516640"/>
            <a:ext cx="3384720" cy="1157040"/>
          </a:xfrm>
          <a:prstGeom prst="rect">
            <a:avLst/>
          </a:prstGeom>
          <a:ln w="0">
            <a:noFill/>
          </a:ln>
        </p:spPr>
      </p:pic>
      <p:sp>
        <p:nvSpPr>
          <p:cNvPr id="99" name="TextBox 7"/>
          <p:cNvSpPr/>
          <p:nvPr/>
        </p:nvSpPr>
        <p:spPr>
          <a:xfrm>
            <a:off x="0" y="3141720"/>
            <a:ext cx="529272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творени су спори волтаж-зависни калцијумско-натријумски канали као и спори волтаж-зависни калијумски кан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личина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а уђе у кардиомиоците и К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а изађе је приближно иста, па се потенцијал мембране одржава на плато нив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6588000" y="3284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9"/>
          <p:cNvSpPr/>
          <p:nvPr/>
        </p:nvSpPr>
        <p:spPr>
          <a:xfrm>
            <a:off x="5940360" y="5661000"/>
            <a:ext cx="1656000" cy="2890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012000" y="6093000"/>
            <a:ext cx="1657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5075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Фаза 3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роводљивос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јон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се смањуј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к се проводљивост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за јон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атворени су спори волтаж-зависни калцијумско-натријумс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канали док су спори волтаж-зависни калијумски канали отвор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Висока проводљивост за јоне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9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доводи до великог изласк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19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што враћа потенцијал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мембране према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равнотежном потенцијалу за 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"/>
          <p:cNvPicPr/>
          <p:nvPr/>
        </p:nvPicPr>
        <p:blipFill>
          <a:blip r:embed="rId1"/>
          <a:stretch/>
        </p:blipFill>
        <p:spPr>
          <a:xfrm>
            <a:off x="2862360" y="3313080"/>
            <a:ext cx="3419280" cy="2492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2862360" y="5818320"/>
            <a:ext cx="3419280" cy="563400"/>
          </a:xfrm>
          <a:prstGeom prst="rect">
            <a:avLst/>
          </a:prstGeom>
          <a:ln w="0">
            <a:noFill/>
          </a:ln>
        </p:spPr>
      </p:pic>
      <p:sp>
        <p:nvSpPr>
          <p:cNvPr id="107" name="Oval 5"/>
          <p:cNvSpPr/>
          <p:nvPr/>
        </p:nvSpPr>
        <p:spPr>
          <a:xfrm>
            <a:off x="5508720" y="479736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6"/>
          <p:cNvSpPr/>
          <p:nvPr/>
        </p:nvSpPr>
        <p:spPr>
          <a:xfrm>
            <a:off x="5364000" y="587700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8960" y="1413000"/>
            <a:ext cx="850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аза 4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ировни мембрански потенција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дност мировног мембранског потенцијала је око -90 mV, што је приближно равнотежном потенцијал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 К</a:t>
            </a:r>
            <a:r>
              <a:rPr b="1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мировног мембранског потенцијала количина јона која уђе у кардиомиоците и која из њих изађе ј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иближно 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2862360" y="3500280"/>
            <a:ext cx="3419280" cy="2492640"/>
          </a:xfrm>
          <a:prstGeom prst="rect">
            <a:avLst/>
          </a:prstGeom>
          <a:ln w="0">
            <a:noFill/>
          </a:ln>
        </p:spPr>
      </p:pic>
      <p:sp>
        <p:nvSpPr>
          <p:cNvPr id="112" name="Oval 4"/>
          <p:cNvSpPr/>
          <p:nvPr/>
        </p:nvSpPr>
        <p:spPr>
          <a:xfrm>
            <a:off x="5940360" y="5589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Ексци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фаза 0, 1 и 2, као и током половине фазе 3 акционог потенцијала комора и преткомора, односн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 мембрански потенцијал не достигне приближно –50 mV за време реполаризације, срчани мишић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бити поново надраж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ком ових фаза акционог потенцијала срчани мишић се налази у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псолутном рефракторном пери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16" name="Oval 4"/>
          <p:cNvSpPr/>
          <p:nvPr/>
        </p:nvSpPr>
        <p:spPr>
          <a:xfrm>
            <a:off x="3995640" y="602136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Ексци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18960" y="1700280"/>
            <a:ext cx="85060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псолутни рефрактарни период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током кога акциони потенцијал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 може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се изазове без обзира на јачину стимулуса, јер с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и који узрокују деполаризацију још увек у инактивираном стањ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руга половина реполаризације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елативн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фрактарни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0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Ексцитаб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18960" y="1341000"/>
            <a:ext cx="8506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ом релативног рефрактарног периода акциони потенцијал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да се изазове, али је потребан знатно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имулу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јер је део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а још увек у инактивираном стању, а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и су још увек отвор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Arial"/>
              </a:rPr>
              <a:t>Постојање дугог рефрактарног периода спречава тетанизацију срчаног мишића, која би била летална у било ком пери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5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Структура кардиомиоц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0572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рком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трактилна јединица мишићне ћелије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ична је контрактилној јединици у скелетном миши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ужа се између дв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Z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и дебеле филамент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озин: тешки (2) и лаки ланци (4)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танке филамент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н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опон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опомиози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 у скелетном мишић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краћење се јавља у складу са моделом клизања филамен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лизање танких филамената дуж суседних дебелих филаменатастварањем попречних мостова између актина и мио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итохонд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није у срчаном него у скелетном миши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Схематски приказ структуре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29640" cy="5535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826920" y="6237360"/>
            <a:ext cx="289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Ð ÐµÐ·ÑÐ»ÑÐ°Ñ ÑÐ»Ð¸ÐºÐ° Ð·Ð° srce gradja"/>
          <p:cNvPicPr/>
          <p:nvPr/>
        </p:nvPicPr>
        <p:blipFill>
          <a:blip r:embed="rId1"/>
          <a:stretch/>
        </p:blipFill>
        <p:spPr>
          <a:xfrm>
            <a:off x="3780000" y="3213000"/>
            <a:ext cx="5084640" cy="345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250920" y="1125360"/>
            <a:ext cx="828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рце се састоји од две одвојен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лови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"десно"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р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умпа крв кроз плућ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. "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лево"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рц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умпа крв кроз периферне орга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вака од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 две половине је пулзирајућа пумпа 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астој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од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две шупљине: преткоморе и 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703520" y="333360"/>
            <a:ext cx="594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7030a0"/>
                </a:solidFill>
                <a:latin typeface="Arial"/>
              </a:rPr>
              <a:t>Функционална анатомија 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50920" y="2997360"/>
            <a:ext cx="446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ред тога, у срцу постоје 4 залист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триовентрикуларн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трикуспидни (3 кусп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митрални (2 куспи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Структура кардиомиоци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505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аркотубулар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 тубули и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мају већи дијаметар у срцу него у скелетном мишић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 тубулу су добро су развијени у коморам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ли слабо у преткоморама (формирају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ијад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са саркоплазматским ретикулумом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оред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који се у саркоплазму ослобађа из саркоплазматског ретикулума, током акционог потенцијала у саркоплазму дифундује и велика количина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из Т-тубу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 мембрани Т-тубула налаз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дихидропиридински рецептори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HPR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ји су волтаж-зависни Са</a:t>
            </a:r>
            <a:r>
              <a:rPr b="0" lang="sr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канали и који се активирају током деполаризације и омогућавају улазак јона Са</a:t>
            </a:r>
            <a:r>
              <a:rPr b="0" lang="sr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у кардиомио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Ванћелијски</a:t>
            </a:r>
            <a:r>
              <a:rPr b="0" lang="sr-Latn-C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улази у ћелију преко овог канала, доводећи до отварања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рианодинског рецептора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типа 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лиганд-зависни Са</a:t>
            </a:r>
            <a:r>
              <a:rPr b="0" lang="sr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кана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</a:rPr>
              <a:t>који се налази на мембрани саркоплазматског ретикул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2050920" y="4170240"/>
            <a:ext cx="583740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Структура кардиомиоц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18960" y="1268280"/>
            <a:ext cx="8506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ганд за ријанодинске рецепторе типа 2 је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оји улази у кардиомиоците из екстрацелуларног прос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 тога се ослобађање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з саркоплазматског ретикулума, посредством ријанодинских рецептора, који се активирају дејсвом екстрацепуларног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који улази кроз дихидропиридинске рецепторе, назив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цијумом индуковано ослобађање калцијума (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дуковано ослобађањ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332000" y="3798720"/>
            <a:ext cx="6654600" cy="305928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1258920" y="3789360"/>
            <a:ext cx="2376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рча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5435640" y="378936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3365280" y="4221000"/>
            <a:ext cx="62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3836520" y="5445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0"/>
          <p:cNvSpPr/>
          <p:nvPr/>
        </p:nvSpPr>
        <p:spPr>
          <a:xfrm>
            <a:off x="2612520" y="5364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1"/>
          <p:cNvSpPr/>
          <p:nvPr/>
        </p:nvSpPr>
        <p:spPr>
          <a:xfrm>
            <a:off x="681768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2"/>
          <p:cNvSpPr/>
          <p:nvPr/>
        </p:nvSpPr>
        <p:spPr>
          <a:xfrm>
            <a:off x="408096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3"/>
          <p:cNvSpPr/>
          <p:nvPr/>
        </p:nvSpPr>
        <p:spPr>
          <a:xfrm>
            <a:off x="1619280" y="422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5796000" y="42210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Разлике у регулацији екцитације и контракције између срчаног и скелетног мишића</a:t>
            </a:r>
            <a:br>
              <a:rPr sz="2400"/>
            </a:b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- схематски приказ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18960" y="1268280"/>
            <a:ext cx="850608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rcRect l="10008" t="23627" r="42189" b="8455"/>
          <a:stretch/>
        </p:blipFill>
        <p:spPr>
          <a:xfrm>
            <a:off x="1476360" y="1773360"/>
            <a:ext cx="633564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5"/>
          <p:cNvSpPr/>
          <p:nvPr/>
        </p:nvSpPr>
        <p:spPr>
          <a:xfrm>
            <a:off x="1774800" y="1484280"/>
            <a:ext cx="193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келетни миши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6"/>
          <p:cNvSpPr/>
          <p:nvPr/>
        </p:nvSpPr>
        <p:spPr>
          <a:xfrm>
            <a:off x="5157360" y="148428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Срчани миши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0" y="485640"/>
            <a:ext cx="9144000" cy="36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Кораци у повезивању ексцитације-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циони потенцијал се пружа од ћелијске мембране до Т тубул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оком плато фазе акционог потенцијала проводљивост за калцијумове јоне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(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је повећана 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лазе у ћелију из екстрацелуларне течност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ок позитивних јон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лазак јона калцијума изазива ослобађање још више калцијума и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(Ca</a:t>
            </a:r>
            <a:r>
              <a:rPr b="1" lang="sr-Latn-CS" sz="1600" spc="-1" strike="noStrike" baseline="30000">
                <a:solidFill>
                  <a:srgbClr val="7030a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-</a:t>
            </a:r>
            <a:r>
              <a:rPr b="1" lang="sr-CS" sz="1600" spc="-1" strike="noStrike">
                <a:solidFill>
                  <a:srgbClr val="7030a0"/>
                </a:solidFill>
                <a:latin typeface="Arial"/>
              </a:rPr>
              <a:t>индуковано ослобађање</a:t>
            </a: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7030a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7030a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личина ослобођено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зависи од претходно ускладиштене количин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од бро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озитивних јона који су током плато фазе акционог потенцијала ушли у ћели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ао резултат овог ослобађањ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нтрацелуларна концентрација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е везују за тропони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, тропомиозин се помера и на тај начи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отклањ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нхибицију везивања између актина и миозин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тин и миозин се повезу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танки и дебели филаменти клизе један између другог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 мишићна ћелија се контрахује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Вредност напона који се развија је пропорционална интрацелуларној концентрациј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2"/>
          <p:cNvSpPr/>
          <p:nvPr/>
        </p:nvSpPr>
        <p:spPr>
          <a:xfrm>
            <a:off x="0" y="2637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3"/>
          <p:cNvSpPr/>
          <p:nvPr/>
        </p:nvSpPr>
        <p:spPr>
          <a:xfrm>
            <a:off x="0" y="335772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89596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Ð ÐµÐ·ÑÐ»ÑÐ°Ñ ÑÐ»Ð¸ÐºÐ° Ð·Ð° release of calcium relaxation cardiomyocite"/>
          <p:cNvPicPr/>
          <p:nvPr/>
        </p:nvPicPr>
        <p:blipFill>
          <a:blip r:embed="rId1"/>
          <a:srcRect l="0" t="30052" r="37002" b="3801"/>
          <a:stretch/>
        </p:blipFill>
        <p:spPr>
          <a:xfrm>
            <a:off x="2195640" y="4076640"/>
            <a:ext cx="4635360" cy="27813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6"/>
          <p:cNvSpPr/>
          <p:nvPr/>
        </p:nvSpPr>
        <p:spPr>
          <a:xfrm>
            <a:off x="6732720" y="4797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Уклањање </a:t>
            </a:r>
            <a:r>
              <a:rPr b="1" lang="en-US" sz="2000" spc="-1" strike="noStrike" u="sng">
                <a:solidFill>
                  <a:srgbClr val="7030a0"/>
                </a:solidFill>
                <a:uFillTx/>
                <a:latin typeface="Arial"/>
              </a:rPr>
              <a:t>Ca</a:t>
            </a:r>
            <a:r>
              <a:rPr b="1" lang="sr-CS" sz="2000" spc="-1" strike="noStrike" u="sng" baseline="30000">
                <a:solidFill>
                  <a:srgbClr val="7030a0"/>
                </a:solidFill>
                <a:uFillTx/>
                <a:latin typeface="Arial"/>
              </a:rPr>
              <a:t>2+</a:t>
            </a: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 из цитосола током релаксације кардиоми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324000" y="1889280"/>
            <a:ext cx="8505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омогућавања релаксације срчаног мишића и пуњења срца крвљу врло је значајно адекватно уклањање јона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 цитоплаз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враћају у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посредством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саркоплазматска)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ATP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избацују у екстрацелуларни простор посредством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/Ca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мењивач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на чију функцију утиче концентрациј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цитоплазми (коју контролиш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, 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аза), као и дејств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која се налази на ћелијској мембрани кардиомиоц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фикасно уклањање 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 цитоплазме помоћу наведених система омогућава релаксацију миокарда и адекватно пуњење комора крвљ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3"/>
          <p:cNvSpPr/>
          <p:nvPr/>
        </p:nvSpPr>
        <p:spPr>
          <a:xfrm>
            <a:off x="324000" y="450000"/>
            <a:ext cx="84247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1. Убацивањ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у саркоплазматски ретикулу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 помоћу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 коју контролише фосфоламбан (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PLB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2. Уклањањ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из цитосола кроз плазма мембрану ћелиј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превасходно помоћу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X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измењивача), на чију активност утиче концентрација јо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у цитосолу (што је под контроло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КА пумпе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К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TP-азн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пумп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CS" sz="1400" spc="-1" strike="noStrike" baseline="30000">
                <a:solidFill>
                  <a:srgbClr val="0033cc"/>
                </a:solidFill>
                <a:latin typeface="Arial"/>
              </a:rPr>
              <a:t>*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)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 мање путе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-азне пумпе која се налази на плазма мембрани мишићне ћелије срц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395280" y="6400800"/>
            <a:ext cx="849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* Блокад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-К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TP-азн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пумп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е (нпр. дигиталис) повећава концентрациј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у цитосолу што смањује ефикасност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CX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(мења 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) и тиме повећава концентрациј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CS" sz="1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у ћелиј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413640" y="260280"/>
            <a:ext cx="8180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Уклањање 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Ca</a:t>
            </a:r>
            <a:r>
              <a:rPr b="1" lang="sr-CS" sz="2000" spc="-1" strike="noStrike" baseline="30000">
                <a:solidFill>
                  <a:srgbClr val="7030a0"/>
                </a:solidFill>
                <a:latin typeface="Arial"/>
              </a:rPr>
              <a:t>2+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 из цитосола током релаксације кардиомиоци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Ð ÐµÐ·ÑÐ»ÑÐ°Ñ ÑÐ»Ð¸ÐºÐ° Ð·Ð° release of calcium relaxation cardiomyocite"/>
          <p:cNvPicPr/>
          <p:nvPr/>
        </p:nvPicPr>
        <p:blipFill>
          <a:blip r:embed="rId1"/>
          <a:srcRect l="0" t="30052" r="37002" b="3801"/>
          <a:stretch/>
        </p:blipFill>
        <p:spPr>
          <a:xfrm>
            <a:off x="1042920" y="2205000"/>
            <a:ext cx="6721560" cy="403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7524720" y="328464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0" y="506880"/>
            <a:ext cx="914400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Кораци у повезивању ексцитације-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7030a0"/>
                </a:solidFill>
                <a:uFillTx/>
                <a:latin typeface="Arial"/>
              </a:rPr>
              <a:t>- схематски приказ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895968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6"/>
          <p:cNvSpPr/>
          <p:nvPr/>
        </p:nvSpPr>
        <p:spPr>
          <a:xfrm>
            <a:off x="6732720" y="4797360"/>
            <a:ext cx="36036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HRR: Excitation-Contraction Coupling Flashcards | Quizlet"/>
          <p:cNvPicPr/>
          <p:nvPr/>
        </p:nvPicPr>
        <p:blipFill>
          <a:blip r:embed="rId1"/>
          <a:srcRect l="0" t="0" r="0" b="2294"/>
          <a:stretch/>
        </p:blipFill>
        <p:spPr>
          <a:xfrm>
            <a:off x="971640" y="1484280"/>
            <a:ext cx="7067520" cy="50403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14"/>
          <p:cNvSpPr/>
          <p:nvPr/>
        </p:nvSpPr>
        <p:spPr>
          <a:xfrm>
            <a:off x="6227640" y="4724280"/>
            <a:ext cx="1657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8"/>
          <p:cNvSpPr/>
          <p:nvPr/>
        </p:nvSpPr>
        <p:spPr>
          <a:xfrm>
            <a:off x="1116000" y="2781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7030a0"/>
                </a:solidFill>
                <a:latin typeface="Arial"/>
              </a:rPr>
              <a:t>Ритмичка екцитација ср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Природа и ширење екцитације кроз с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проводни систе срц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ине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нтернодал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но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предњи, средњи и задњи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исов сно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уркињеов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лак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7199280" cy="38196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79280" y="5373720"/>
            <a:ext cx="32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атомска локализација делова спроводног система срца и изглед њиховог акционог потенциј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505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се налази на споју горње шупље вене и десне преткоморе, док с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V чвор налази у задњем десном делу интератријалног септу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је три снопа преткоморских влакана која повезују SA чвор са 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вором: предњи, средњ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нкебахов сно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nckeba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дњ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релов сноп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or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AV чвор се наставља Хисовим снопом, који се на врху интервентрикуларног септума дели на леву и десну гр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не и снопови се простиру наниже у субендокардијалном слоју са сваке стране септума и ступају у контакт са Пуркињеовим системом, чија се влакна шире до свих делова миокарда ком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611280" y="1557360"/>
            <a:ext cx="8169120" cy="50403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4"/>
          <p:cNvSpPr/>
          <p:nvPr/>
        </p:nvSpPr>
        <p:spPr>
          <a:xfrm>
            <a:off x="1501920" y="620640"/>
            <a:ext cx="594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7030a0"/>
                </a:solidFill>
                <a:latin typeface="Arial"/>
              </a:rPr>
              <a:t>Унутрашњи пресек грађе 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br>
              <a:rPr sz="2800"/>
            </a:br>
            <a:r>
              <a:rPr b="0" lang="sr-Latn-CS" sz="28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8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8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8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е које ритмички окидају акционе потенцијале им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мбранске потенцијале који се након сваког импул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ближавају нивоу прага окид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а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вод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потенција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зрок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танак следећег акционог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условим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водник срчаног рит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cemaker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одређеним патолошким стањима када је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супримиран, улогу предводника срчаног ритма преузи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, Хисов сноп или Пуркињеова влакна, због чега се ови делови спроводног система називају “латентним” предводницима срчаног ри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роводни систем срца састављен је од модификованог срчаног мишића који има мање пруга и нејасне гран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4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4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фазе 1 и 2 које постоје у акционом потенцијалу преткомора, комора и Пуркињеових влак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стабила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мировни мембрански потенцијал ил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пор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поларизацију (пејсмејкерска 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утомат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 услед постојања канала који су пропустљиви з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последичног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порог уласка јон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у ћел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916360" y="4292640"/>
            <a:ext cx="4302000" cy="2233440"/>
          </a:xfrm>
          <a:prstGeom prst="rect">
            <a:avLst/>
          </a:prstGeom>
          <a:ln w="0">
            <a:noFill/>
          </a:ln>
        </p:spPr>
      </p:pic>
      <p:sp>
        <p:nvSpPr>
          <p:cNvPr id="192" name="Oval 5"/>
          <p:cNvSpPr/>
          <p:nvPr/>
        </p:nvSpPr>
        <p:spPr>
          <a:xfrm>
            <a:off x="3348000" y="5732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88200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8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4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18960" y="1916280"/>
            <a:ext cx="850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и се активирају одмах након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хиперполаризаци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о завршеној реполаризацији називају се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нал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али због њихове неуобичајене (енгл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шне) активације називају се и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нали, а струја која настаје проласком јона кроз ове канале назива се смешна струја или 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nny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rcRect l="11033" t="0" r="0" b="0"/>
          <a:stretch/>
        </p:blipFill>
        <p:spPr>
          <a:xfrm>
            <a:off x="2987640" y="4076640"/>
            <a:ext cx="4057560" cy="2089080"/>
          </a:xfrm>
          <a:prstGeom prst="rect">
            <a:avLst/>
          </a:prstGeom>
          <a:ln w="0">
            <a:noFill/>
          </a:ln>
        </p:spPr>
      </p:pic>
      <p:sp>
        <p:nvSpPr>
          <p:cNvPr id="196" name="Oval 5"/>
          <p:cNvSpPr/>
          <p:nvPr/>
        </p:nvSpPr>
        <p:spPr>
          <a:xfrm>
            <a:off x="3419640" y="537372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9"/>
          <p:cNvCxnSpPr/>
          <p:nvPr/>
        </p:nvCxnSpPr>
        <p:spPr>
          <a:xfrm flipV="1">
            <a:off x="4642920" y="5805000"/>
            <a:ext cx="1080" cy="550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98" name="TextBox 11"/>
          <p:cNvSpPr/>
          <p:nvPr/>
        </p:nvSpPr>
        <p:spPr>
          <a:xfrm>
            <a:off x="3708360" y="627228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Хиперполаризација и активациј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„h”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ка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97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4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0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18960" y="1628280"/>
            <a:ext cx="850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з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епено повећање мембранског потенцијала током фазе 4 изазива отварањ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рих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лцијумских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(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 отварања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нала јони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лазе у ћелију у изазивају д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 разлику од фазе 0 у преткоморама, коморама и Пуркињеовим влакнима која настаје услед уласка јон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 настаје услед уласка јона Са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rcRect l="12217" t="0" r="0" b="0"/>
          <a:stretch/>
        </p:blipFill>
        <p:spPr>
          <a:xfrm>
            <a:off x="2987640" y="4365720"/>
            <a:ext cx="4143240" cy="2158920"/>
          </a:xfrm>
          <a:prstGeom prst="rect">
            <a:avLst/>
          </a:prstGeom>
          <a:ln w="0">
            <a:noFill/>
          </a:ln>
        </p:spPr>
      </p:pic>
      <p:sp>
        <p:nvSpPr>
          <p:cNvPr id="202" name="Oval 5"/>
          <p:cNvSpPr/>
          <p:nvPr/>
        </p:nvSpPr>
        <p:spPr>
          <a:xfrm>
            <a:off x="3635280" y="5157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9796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SA 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чвора, </a:t>
            </a:r>
            <a:r>
              <a:rPr b="0" lang="sr-Latn-CS" sz="2400" spc="-1" strike="noStrike" u="sng">
                <a:solidFill>
                  <a:srgbClr val="7030a0"/>
                </a:solidFill>
                <a:uFillTx/>
                <a:latin typeface="Arial"/>
              </a:rPr>
              <a:t>AV</a:t>
            </a:r>
            <a:r>
              <a:rPr b="0" lang="sr-CS" sz="2400" spc="-1" strike="noStrike" u="sng">
                <a:solidFill>
                  <a:srgbClr val="7030a0"/>
                </a:solidFill>
                <a:uFillTx/>
                <a:latin typeface="Arial"/>
              </a:rPr>
              <a:t> чвора и Хисовог снопа</a:t>
            </a:r>
            <a:br>
              <a:rPr sz="2400"/>
            </a:br>
            <a:r>
              <a:rPr b="0" lang="sr-CS" sz="2400" spc="-1" strike="noStrike">
                <a:solidFill>
                  <a:srgbClr val="7030a0"/>
                </a:solidFill>
                <a:latin typeface="Arial"/>
              </a:rPr>
              <a:t>- Фаза 3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18960" y="1844280"/>
            <a:ext cx="850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3 представљ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врху сваког импулса повећава се пропустљивост мембране за калијум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и повећан излазак јона К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з ћелије изазива реполариз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е 1 и 2 акционог потенцијала претокомора, комора и Пуркињеових влакан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 постој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акционом потенцијал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rcRect l="12616" t="0" r="0" b="0"/>
          <a:stretch/>
        </p:blipFill>
        <p:spPr>
          <a:xfrm>
            <a:off x="3132000" y="4149720"/>
            <a:ext cx="3990960" cy="209088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4427640" y="4869000"/>
            <a:ext cx="431640" cy="360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2176560"/>
            <a:ext cx="92217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краћ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траје 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дуж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с-Пуркињеовом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то је у физиолошким условим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едводник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срчаног рит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зина стварања импулса у појединим деловима спроводног систем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– од 60 до 100 импулса у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чвор – од 40 до 60 импулса и мину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ркињеова влакна – од 15 до 40 импулса у мину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18960" y="1773000"/>
            <a:ext cx="8506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Брзина спровође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импулса је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чвору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што даје довољно времена да се коморе напуне крвљу пре контракције, 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уркињеовим влакним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што омогућава да се сви делови комора контрахују истоврем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1728720" y="3573360"/>
            <a:ext cx="56865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1979640" y="2924280"/>
            <a:ext cx="504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7030a0"/>
                </a:solidFill>
                <a:latin typeface="Arial"/>
              </a:rPr>
              <a:t>Срчани циклу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14" descr="animacija"/>
          <p:cNvPicPr/>
          <p:nvPr/>
        </p:nvPicPr>
        <p:blipFill>
          <a:blip r:embed="rId1"/>
          <a:stretch/>
        </p:blipFill>
        <p:spPr>
          <a:xfrm>
            <a:off x="2127240" y="1920960"/>
            <a:ext cx="5214960" cy="4603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5"/>
          <p:cNvSpPr/>
          <p:nvPr/>
        </p:nvSpPr>
        <p:spPr>
          <a:xfrm>
            <a:off x="914400" y="52560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РЦЕ СВАКОДНЕВНО МОЖЕ ДА ОСТВАРИ ОКО 100.000 ОТКУЦАЈА ОНДА И МИ  МОЖЕМО ДА УСВОЈИМО СВАКУ ФИНЕСУ О СРЧАНОМ ЦИКЛУСУ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5"/>
          <p:cNvSpPr/>
          <p:nvPr/>
        </p:nvSpPr>
        <p:spPr>
          <a:xfrm>
            <a:off x="2627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И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250920" y="1197000"/>
            <a:ext cx="86421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А-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(atrio-ventrikularne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лвуле (трикуспидална и митрална валвула) спречавају да се крв за време систоле враћа из комора у прет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250920" y="1773360"/>
            <a:ext cx="856908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Семилунарне валвул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(валвула аорте и валвула пулмоналне артерије) за време дијастоле спречавају да се крв враћа из аорте и плућне артерије у 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чане валвуле се пасивно отварају и затварају као последиц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ијента прит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1187280" y="2708280"/>
            <a:ext cx="639468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755640" y="25992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85800" y="1519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80880" y="293328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1187280" y="7660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ИЗИОЛОШКЕ ОДЛИКЕ СРЧАНОГ МИШИ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1"/>
          <p:cNvSpPr/>
          <p:nvPr/>
        </p:nvSpPr>
        <p:spPr>
          <a:xfrm>
            <a:off x="0" y="1413000"/>
            <a:ext cx="878508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рчани мишић је попречно-пругаст (као и скелетни) и садржи актинске и миозинске филаменте који у току контракције клизе један дуж других, на исти начин као у скелетном мишић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собеност срчаног мишића представљају интеркалатни дискови (discus intercalatus) - јављају се на крајевима  ћелија и заправо су ћелијске мембране које раздвајају појединачне ћелије срчаног мишић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547640" y="4292640"/>
            <a:ext cx="6553440" cy="23050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0"/>
          <p:cNvSpPr/>
          <p:nvPr/>
        </p:nvSpPr>
        <p:spPr>
          <a:xfrm>
            <a:off x="0" y="335772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 интеркалатним диско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се налаз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ap junctions –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розне ве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ји с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i="1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путеви ниског отпора</a:t>
            </a: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"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00 пута мањи отпор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ђу ћелија и омогућав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 пренос акционог потенција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лектрични синцицију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5"/>
          <p:cNvSpPr/>
          <p:nvPr/>
        </p:nvSpPr>
        <p:spPr>
          <a:xfrm>
            <a:off x="1187280" y="766440"/>
            <a:ext cx="655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ПИЛАРНИ МИШИ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79280" y="1989000"/>
            <a:ext cx="417672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апиларни мишић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hordae tendinea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чвршћују за ивице валвула се контрахују када се зидови комора контрахују, и не помажу затварање валв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Њихова функција је да вуку залиске у коморе, па се за време систоле комора валвуле не могу превише избочити у преткомо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Ð¡ÑÐ¾Ð´Ð½Ð° ÑÐ»Ð¸ÐºÐ°"/>
          <p:cNvPicPr/>
          <p:nvPr/>
        </p:nvPicPr>
        <p:blipFill>
          <a:blip r:embed="rId1"/>
          <a:stretch/>
        </p:blipFill>
        <p:spPr>
          <a:xfrm>
            <a:off x="4427640" y="1862280"/>
            <a:ext cx="4716360" cy="40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541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чани циклус – период од почетка је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акције до почетка друг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оји се од: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е (контракције)                             дијастоле (релакс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sis"/>
          <p:cNvPicPr/>
          <p:nvPr/>
        </p:nvPicPr>
        <p:blipFill>
          <a:blip r:embed="rId1"/>
          <a:stretch/>
        </p:blipFill>
        <p:spPr>
          <a:xfrm>
            <a:off x="0" y="3168720"/>
            <a:ext cx="2811600" cy="3689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dij"/>
          <p:cNvPicPr/>
          <p:nvPr/>
        </p:nvPicPr>
        <p:blipFill>
          <a:blip r:embed="rId2"/>
          <a:stretch/>
        </p:blipFill>
        <p:spPr>
          <a:xfrm>
            <a:off x="6329520" y="3173400"/>
            <a:ext cx="28144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C:\Users\Vladimir Zivkovic\Desktop\GANONG\SLIKE\XXX POGLAVLjE\PNG\Gan024_Slika_30-01.png"/>
          <p:cNvPicPr/>
          <p:nvPr/>
        </p:nvPicPr>
        <p:blipFill>
          <a:blip r:embed="rId1"/>
          <a:srcRect l="0" t="0" r="0" b="53430"/>
          <a:stretch/>
        </p:blipFill>
        <p:spPr>
          <a:xfrm>
            <a:off x="1116000" y="2997360"/>
            <a:ext cx="77454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C:\Users\Vladimir Zivkovic\Desktop\GANONG\SLIKE\XXX POGLAVLjE\PNG\Gan024_Slika_30-01.png"/>
          <p:cNvPicPr/>
          <p:nvPr/>
        </p:nvPicPr>
        <p:blipFill>
          <a:blip r:embed="rId1"/>
          <a:srcRect l="0" t="0" r="53848" b="53430"/>
          <a:stretch/>
        </p:blipFill>
        <p:spPr>
          <a:xfrm>
            <a:off x="4572000" y="213372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4"/>
          <p:cNvSpPr/>
          <p:nvPr/>
        </p:nvSpPr>
        <p:spPr>
          <a:xfrm>
            <a:off x="250920" y="2421000"/>
            <a:ext cx="468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 почетку систоле комора, АV залисци се затварају, а семилунарни залисци се још нису отвор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л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ва комора је пуна крви која је пристигла из леве преткоморе и њена запремина износи ок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40 ml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нд-дијастолни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ски мишић се мало скрати, интравентрикуларни притисак нагло расте (миокард притиска крв у комор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- Овај период </a:t>
            </a:r>
            <a:r>
              <a:rPr b="0" lang="ru-RU" sz="1800" spc="-1" strike="noStrike">
                <a:solidFill>
                  <a:srgbClr val="000000"/>
                </a:solidFill>
                <a:latin typeface="MinionPro-Regular"/>
              </a:rPr>
              <a:t>траје око 0,05 секунди, све док притисак у левој комори не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ао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179280" y="2349360"/>
            <a:ext cx="4572000" cy="42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ада притисак у левој комори надвлада притисак у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орти (80 mmHg)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олази до отварања аортних залиста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Крв почиње да се избацује у аорту, притисак у комори услед систоле и даље расте (фазе брзе ејекције) и достиже вредност систолног притиска у аор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Како запремина крви у коморама током ејекције пада, долази и до пада притиска у њима (фаза споре ејекције) и када притисак у аорти надмаши притисак у комори затварају се семилунарне валву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Количина крви која се при томе избаци из коморе назива се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ударни волумен 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ко 70-90m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Users\Vladimir Zivkovic\Desktop\GANONG\SLIKE\XXX POGLAVLjE\PNG\Gan024_Slika_30-01.png"/>
          <p:cNvPicPr/>
          <p:nvPr/>
        </p:nvPicPr>
        <p:blipFill>
          <a:blip r:embed="rId1"/>
          <a:srcRect l="46558" t="0" r="0" b="53430"/>
          <a:stretch/>
        </p:blipFill>
        <p:spPr>
          <a:xfrm>
            <a:off x="4859280" y="1268280"/>
            <a:ext cx="4896000" cy="41338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"/>
          <p:cNvSpPr/>
          <p:nvPr/>
        </p:nvSpPr>
        <p:spPr>
          <a:xfrm>
            <a:off x="4572000" y="5373720"/>
            <a:ext cx="45720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Запремина крви која остане у левој комори се назива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енд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систолни волумен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(око 50ml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Vladimir Zivkovic\Desktop\GANONG\SLIKE\XXX POGLAVLjE\PNG\Gan024_Slika_30-01.png"/>
          <p:cNvPicPr/>
          <p:nvPr/>
        </p:nvPicPr>
        <p:blipFill>
          <a:blip r:embed="rId1"/>
          <a:srcRect l="0" t="46576" r="0" b="0"/>
          <a:stretch/>
        </p:blipFill>
        <p:spPr>
          <a:xfrm>
            <a:off x="1332000" y="2924280"/>
            <a:ext cx="662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Users\Vladimir Zivkovic\Desktop\GANONG\SLIKE\XXX POGLAVLjE\PNG\Gan024_Slika_30-01.png"/>
          <p:cNvPicPr/>
          <p:nvPr/>
        </p:nvPicPr>
        <p:blipFill>
          <a:blip r:embed="rId1"/>
          <a:srcRect l="0" t="46576" r="64134" b="0"/>
          <a:stretch/>
        </p:blipFill>
        <p:spPr>
          <a:xfrm>
            <a:off x="4998960" y="2276640"/>
            <a:ext cx="3894120" cy="4321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4"/>
          <p:cNvSpPr/>
          <p:nvPr/>
        </p:nvSpPr>
        <p:spPr>
          <a:xfrm>
            <a:off x="8229600" y="30686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4000" y="1916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да се залисци затворe, притисак наставља брзо да 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лунарни залисци су затворени, а   АV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 фаза се завршава када комор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исак падне испод притиска у преткоморама и АV залисци се отворе, омогућавајући пуњењ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7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Vladimir Zivkovic\Desktop\GANONG\SLIKE\XXX POGLAVLjE\PNG\Gan024_Slika_30-01.png"/>
          <p:cNvPicPr/>
          <p:nvPr/>
        </p:nvPicPr>
        <p:blipFill>
          <a:blip r:embed="rId1"/>
          <a:srcRect l="32539" t="46576" r="0" b="0"/>
          <a:stretch/>
        </p:blipFill>
        <p:spPr>
          <a:xfrm>
            <a:off x="4356000" y="2708280"/>
            <a:ext cx="4788000" cy="3960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4"/>
          <p:cNvSpPr/>
          <p:nvPr/>
        </p:nvSpPr>
        <p:spPr>
          <a:xfrm>
            <a:off x="17928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V залисци су отворен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ртни и пулмонални залисци затво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в из преткомора утиче у коморе најпре брзо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рана фаза брзог пуњења комо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потом споро-пасивно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дијаста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док се преосталих 25-30% крви избаци систолом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онтракциј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rcRect l="0" t="2887" r="0" b="2887"/>
          <a:stretch/>
        </p:blipFill>
        <p:spPr>
          <a:xfrm>
            <a:off x="0" y="665280"/>
            <a:ext cx="8906040" cy="619272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2980080" y="0"/>
            <a:ext cx="34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 u="sng">
                <a:solidFill>
                  <a:srgbClr val="4d33ff"/>
                </a:solidFill>
                <a:uFillTx/>
                <a:latin typeface="MyriadPro-Black"/>
              </a:rPr>
              <a:t>Вигерсов дијагр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33ff"/>
                </a:solidFill>
                <a:latin typeface="MyriadPro-Black"/>
              </a:rPr>
              <a:t>Промене притиска у преткоморама током срчаног циклу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24000" y="213372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а талас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 притиска у преткоморама услед контракције преткоморa (касна фаза брзог пуњења комора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стаје након р таласа ЕКГ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 талас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раст притиска у преткоморама услед проминирања атриовентрикуларних залистака у преткоморе (на крају изоволуметријске контракције комора)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стаје након R таласа ЕКГ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 талас: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раст притиска у преткоморама услед пуњења преткомора крвљу (изоволумeтријскa релаксацијa комора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Настаје након T таласа ЕКГ-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547640" y="69228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Грађа порозних веза (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Gap junctions</a:t>
            </a: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179280" y="1581480"/>
            <a:ext cx="8964720" cy="4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На нивоу порозних веза међућелијски простор се сужав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а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јединице које се називају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MinionPro-Bold"/>
              </a:rPr>
              <a:t>конексо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Bold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мембрани суседних ћелија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с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ређају једна уз друг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формирајућ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ванаестостраничну структуру порозн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везе 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(слика на следећем слај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Свак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конекс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је састављен од шест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протеинских субједница названих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MinionPro-Bold"/>
              </a:rPr>
              <a:t>конекс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Они окружуј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канал који када се налази у линији са истим таквим каналом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суседне ћелије дозвољава пролаз супстанцама из једне 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ругу ћелију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без проласка супстанци у ванћелијски простор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ијаметар канал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(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  <a:ea typeface="MinionPro-Regular"/>
              </a:rPr>
              <a:t>ок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inionPro-Regular"/>
              </a:rPr>
              <a:t>2 nm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)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озвољава пролаз јонима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шећерима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аминокиселин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и другим раствореним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честицама,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чија је молекулска маса до 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4000"/>
              </a:lnSpc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Услед тога, порозне вез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дозвољавају брзу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пропагацију електричних потенцијал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са једне на другу ћелију, као и размену разних хемијских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гласник</a:t>
            </a:r>
            <a:r>
              <a:rPr b="0" lang="sr-RS" sz="1600" spc="-1" strike="noStrike">
                <a:solidFill>
                  <a:srgbClr val="000000"/>
                </a:solidFill>
                <a:latin typeface="Arial"/>
                <a:ea typeface="MinionPro-Regular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Притисци и волумени у комо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4000" y="170028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јвиши притисак у левој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и износи око 120 mmHg, а у десној око 25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рни волумен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сваком контракцијом комора у мировању избаци (70–90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си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остаје у коморама на крају систоле (50 – 6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дија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налази у коморама на крају дијастоле (120 – 14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ат енд-дијастолног волумена (130-140 ml) који се избаци при свакој систоли (око 6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је значај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ељ функциј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утни волумен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мина крви коју срце испумпа током једног минута (у миру износи 4-6 L/мин), једнака је производу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дарног волуме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фреквенције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d33ff"/>
                </a:solidFill>
                <a:latin typeface="MyriadPro-Black"/>
              </a:rPr>
              <a:t>Утицај различитих стања на</a:t>
            </a:r>
            <a:br>
              <a:rPr sz="2800"/>
            </a:br>
            <a:r>
              <a:rPr b="0" lang="ru-RU" sz="2800" spc="-1" strike="noStrike">
                <a:solidFill>
                  <a:srgbClr val="4d33ff"/>
                </a:solidFill>
                <a:latin typeface="MyriadPro-Black"/>
              </a:rPr>
              <a:t>минутни волумен ср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904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826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04700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око 0,8 секунди (фреквенца 70-80/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комора – 1/3 времена око 0,3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комора – 2/3 времена око 0,5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преткомора – око 0,1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преткомора – око 0,7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547668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а повећањем фреквенције срца, срчани циклус се скраћу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(види табелу на претходном слај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аћење трајања систоле је последица скраћења фазе ејекције у систо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ајање дијастоле се са повећањем фреквенције више смањује (посебно се скраћује трајање фазе дијастаз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чани мишић мирује током дијастоле, и коронарни проток крви кроз субендокардне делове леве коморе остварује се само у току дијастол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 пуњење је адекватно све док постоји довољан венски прилив, а минутни волумен срца расте на рачун повећања фреквен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високим фреквенцијама, пуњење може бити компромитовано до тог степена да се смањи минутни волумен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ћи да има продужен акциони потенцијал, срчани мишић није у стању да реагује контракцијом на нови стимулус све до пред крај иницијалне контракције -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е може доћи до тетанизације срчаног мишић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рива притисак - волумен у комор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136000" cy="36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 крива је конструисана комбиновањем криве систолног и криве дијастолног прит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јастолног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притиска представља однос притиска и волумена у коморама за време дијаст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рива систолног притиска представља однос између притиска и волумена у коморама за време сист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ан срчани циклус се може приказати и крив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Vladimir Zivkovic\Desktop\GANONG\SLIKE\XXX POGLAVLjE\PNG\Gan024_Slika_30-02.png"/>
          <p:cNvPicPr/>
          <p:nvPr/>
        </p:nvPicPr>
        <p:blipFill>
          <a:blip r:embed="rId1"/>
          <a:stretch/>
        </p:blipFill>
        <p:spPr>
          <a:xfrm>
            <a:off x="324000" y="3457440"/>
            <a:ext cx="3671640" cy="328644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4356000" y="4149720"/>
            <a:ext cx="457200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Током дијастоле, комора се пуни и притисак расте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итиса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г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сте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ком изоволуметријске контракциј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ком брзе ејекције притисак најпре расте (услед систоле), а потом опада током споре ејекције (запремина крви током ејекције пад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У тачки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ортни залисци се затварају и притисак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нагл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пада током изоволуметријске релаксације од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о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4356000" y="4005360"/>
            <a:ext cx="4537080" cy="2376360"/>
          </a:xfrm>
          <a:prstGeom prst="rect">
            <a:avLst/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ромене у облику криве притисак-волум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ктор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Повећан pre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Повећан after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Повећана контрактил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Ð¡ÑÐ¾Ð´Ð½Ð° ÑÐ»Ð¸ÐºÐ°"/>
          <p:cNvPicPr/>
          <p:nvPr/>
        </p:nvPicPr>
        <p:blipFill>
          <a:blip r:embed="rId1"/>
          <a:srcRect l="0" t="15695" r="0" b="10358"/>
          <a:stretch/>
        </p:blipFill>
        <p:spPr>
          <a:xfrm>
            <a:off x="179280" y="3860640"/>
            <a:ext cx="8964720" cy="25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већан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p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Preloa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степен истегнутости мишића на почетку контракције, оптерећење волуме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Preload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е односи на повећан ен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ијастолни волумен који настаје услед повећаног венског прилива у физиолошким усл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Доводи до повећања ударног волумена што је у основ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Frank-Starling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вог зако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sr-RS" sz="1800" spc="-1" strike="noStrike">
                <a:solidFill>
                  <a:srgbClr val="000000"/>
                </a:solidFill>
                <a:latin typeface="Arial"/>
                <a:ea typeface="Arial"/>
              </a:rPr>
              <a:t>(види касн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Повећан ударни волумен доводи до проширења криве притисак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волум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2" descr="Ð¡ÑÐ¾Ð´Ð½Ð° ÑÐ»Ð¸ÐºÐ°"/>
          <p:cNvPicPr/>
          <p:nvPr/>
        </p:nvPicPr>
        <p:blipFill>
          <a:blip r:embed="rId1"/>
          <a:srcRect l="0" t="15695" r="63858" b="10358"/>
          <a:stretch/>
        </p:blipFill>
        <p:spPr>
          <a:xfrm>
            <a:off x="3419640" y="3645000"/>
            <a:ext cx="3744720" cy="29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већан </a:t>
            </a:r>
            <a:r>
              <a:rPr b="1" lang="en-US" sz="2400" spc="-1" strike="noStrike">
                <a:solidFill>
                  <a:srgbClr val="7030a0"/>
                </a:solidFill>
                <a:latin typeface="Arial"/>
              </a:rPr>
              <a:t>after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35164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Afterload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оптерећење које мишић савладава својом контракцијом, оптерећење притис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7030a0"/>
                </a:solidFill>
                <a:latin typeface="Arial"/>
                <a:ea typeface="Arial"/>
              </a:rPr>
              <a:t>Afterload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 се односи на повећање притиска у аор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Комора мора да избаци крв насупрот вишем притиску у аорти што доводи до смањења ударног волу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мањен ударни волумен доводи до сужења криве притисак-волум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Смањен ударни волумен повећава запремину крви која остаје у комори (енд-систолни волуме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2" descr="Ð¡ÑÐ¾Ð´Ð½Ð° ÑÐ»Ð¸ÐºÐ°"/>
          <p:cNvPicPr/>
          <p:nvPr/>
        </p:nvPicPr>
        <p:blipFill>
          <a:blip r:embed="rId1"/>
          <a:srcRect l="36950" t="15695" r="31727" b="10358"/>
          <a:stretch/>
        </p:blipFill>
        <p:spPr>
          <a:xfrm>
            <a:off x="4211640" y="3805200"/>
            <a:ext cx="3024360" cy="2792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" descr="Ð¡ÑÐ¾Ð´Ð½Ð° ÑÐ»Ð¸ÐºÐ°"/>
          <p:cNvPicPr/>
          <p:nvPr/>
        </p:nvPicPr>
        <p:blipFill>
          <a:blip r:embed="rId2"/>
          <a:srcRect l="0" t="15695" r="94383" b="10358"/>
          <a:stretch/>
        </p:blipFill>
        <p:spPr>
          <a:xfrm>
            <a:off x="3665520" y="3789360"/>
            <a:ext cx="5461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824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већана контрактил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13600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коморама се развија већи притисак него што је уобичајено за време сист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 доводи до повећања ударног волум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023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н ударни волумен доводи до смањења запремине крви у комори на крају сист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2" descr="Ð¡ÑÐ¾Ð´Ð½Ð° ÑÐ»Ð¸ÐºÐ°"/>
          <p:cNvPicPr/>
          <p:nvPr/>
        </p:nvPicPr>
        <p:blipFill>
          <a:blip r:embed="rId1"/>
          <a:srcRect l="67480" t="15695" r="0" b="10358"/>
          <a:stretch/>
        </p:blipFill>
        <p:spPr>
          <a:xfrm>
            <a:off x="4572000" y="371628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2" descr="Ð¡ÑÐ¾Ð´Ð½Ð° ÑÐ»Ð¸ÐºÐ°"/>
          <p:cNvPicPr/>
          <p:nvPr/>
        </p:nvPicPr>
        <p:blipFill>
          <a:blip r:embed="rId2"/>
          <a:srcRect l="0" t="15695" r="94383" b="10358"/>
          <a:stretch/>
        </p:blipFill>
        <p:spPr>
          <a:xfrm>
            <a:off x="4067280" y="3716280"/>
            <a:ext cx="54612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824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Ефекат систолне и дијастолне дисфункције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на криву притисак-волумен у левој ком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5013360"/>
            <a:ext cx="8137440" cy="13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оба график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не линије представљају нормалну криву притисак-волумен, а испрекидане линије показују како се крива помера у случају обољења срц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Лево: систолна дисфункција помера изоволемијски део криве притисак-волумен удесно, смањујући ударни волумен са б-в на б’-в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сно: дијастолна дисфункција повећава енд-дијастолни волумен и помера дијастолни однос притисак-волумен нагоре и улево. Ово изазива смањење ударног волумена са б-в на б’-в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2" descr="C:\Users\Vladimir Zivkovic\Desktop\GANONG\SLIKE\XXX POGLAVLjE\PNG\Gan024_Slika_30-07.png"/>
          <p:cNvPicPr/>
          <p:nvPr/>
        </p:nvPicPr>
        <p:blipFill>
          <a:blip r:embed="rId1"/>
          <a:stretch/>
        </p:blipFill>
        <p:spPr>
          <a:xfrm>
            <a:off x="971640" y="1341360"/>
            <a:ext cx="70628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D:\Suzana\Ganong knjiga\GANONG knjiga\SLIKE\II POGLAVLjE\PNG\Gan024_Deo_02-09.png"/>
          <p:cNvPicPr/>
          <p:nvPr/>
        </p:nvPicPr>
        <p:blipFill>
          <a:blip r:embed="rId1"/>
          <a:stretch/>
        </p:blipFill>
        <p:spPr>
          <a:xfrm>
            <a:off x="2916360" y="404640"/>
            <a:ext cx="6730920" cy="60944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179280" y="1268280"/>
            <a:ext cx="2737080" cy="46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лак порозних веза или колекциј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појединачних порозних веза,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формира више пора између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ћелија кој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дозвољавају пролаз малих молекула. Уметак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1100" spc="-1" strike="noStrike">
                <a:solidFill>
                  <a:srgbClr val="000000"/>
                </a:solidFill>
                <a:latin typeface="Arial"/>
                <a:ea typeface="Arial"/>
              </a:rPr>
              <a:t>десно на слици је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електромикрографски приказ јетре пацова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)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Топографски приказ појединачног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конексона и одговарајућих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шест конексинских протеина који пролазе кроз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мембрану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547640" y="549360"/>
            <a:ext cx="52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  <a:ea typeface="Arial"/>
              </a:rPr>
              <a:t>Схематски приказ грађе порозних в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  <a:ea typeface="Times New Roman"/>
              </a:rPr>
              <a:t>Фактори који утичу на минутни волумен срц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Diagram 3" descr=""/>
          <p:cNvPicPr/>
          <p:nvPr/>
        </p:nvPicPr>
        <p:blipFill>
          <a:blip r:embed="rId1"/>
          <a:stretch/>
        </p:blipFill>
        <p:spPr>
          <a:xfrm>
            <a:off x="1116000" y="1395360"/>
            <a:ext cx="6504120" cy="4998960"/>
          </a:xfrm>
          <a:prstGeom prst="rect">
            <a:avLst/>
          </a:prstGeom>
          <a:ln w="0">
            <a:noFill/>
          </a:ln>
        </p:spPr>
      </p:pic>
      <p:sp>
        <p:nvSpPr>
          <p:cNvPr id="287" name="Down Arrow 7"/>
          <p:cNvSpPr/>
          <p:nvPr/>
        </p:nvSpPr>
        <p:spPr>
          <a:xfrm>
            <a:off x="4211640" y="2565360"/>
            <a:ext cx="289080" cy="35892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ight Arrow 8"/>
          <p:cNvSpPr/>
          <p:nvPr/>
        </p:nvSpPr>
        <p:spPr>
          <a:xfrm>
            <a:off x="2916360" y="3789360"/>
            <a:ext cx="431640" cy="287280"/>
          </a:xfrm>
          <a:prstGeom prst="rightArrow">
            <a:avLst>
              <a:gd name="adj1" fmla="val 50000"/>
              <a:gd name="adj2" fmla="val 49993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ight Arrow 9"/>
          <p:cNvSpPr/>
          <p:nvPr/>
        </p:nvSpPr>
        <p:spPr>
          <a:xfrm rot="10800000">
            <a:off x="5435280" y="3715920"/>
            <a:ext cx="431640" cy="289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ight Arrow 10"/>
          <p:cNvSpPr/>
          <p:nvPr/>
        </p:nvSpPr>
        <p:spPr>
          <a:xfrm rot="16200000">
            <a:off x="4151160" y="4876920"/>
            <a:ext cx="432000" cy="288720"/>
          </a:xfrm>
          <a:prstGeom prst="rightArrow">
            <a:avLst>
              <a:gd name="adj1" fmla="val 50000"/>
              <a:gd name="adj2" fmla="val 50055"/>
            </a:avLst>
          </a:prstGeom>
          <a:solidFill>
            <a:srgbClr val="0020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Интеракције између компоненти које</a:t>
            </a:r>
            <a:br>
              <a:rPr sz="2000"/>
            </a:br>
            <a:r>
              <a:rPr b="0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регулишу минутни волумен срца и артеријски притисак 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2" descr="C:\Users\Vladimir Zivkovic\Desktop\GANONG\SLIKE\XXX POGLAVLjE\PNG\Gan024_Slika_30-05.png"/>
          <p:cNvPicPr/>
          <p:nvPr/>
        </p:nvPicPr>
        <p:blipFill>
          <a:blip r:embed="rId1"/>
          <a:stretch/>
        </p:blipFill>
        <p:spPr>
          <a:xfrm>
            <a:off x="1979640" y="1557360"/>
            <a:ext cx="4656240" cy="446400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11"/>
          <p:cNvSpPr/>
          <p:nvPr/>
        </p:nvSpPr>
        <p:spPr>
          <a:xfrm>
            <a:off x="826920" y="6237360"/>
            <a:ext cx="749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уне линије показују повећање, а испрекидане смањењ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4"/>
          <p:cNvSpPr/>
          <p:nvPr/>
        </p:nvSpPr>
        <p:spPr>
          <a:xfrm>
            <a:off x="1707120" y="692280"/>
            <a:ext cx="617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РЕГУЛАЦИЈА СРЧАНОГ РАД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"/>
          <p:cNvSpPr/>
          <p:nvPr/>
        </p:nvSpPr>
        <p:spPr>
          <a:xfrm>
            <a:off x="395280" y="1700280"/>
            <a:ext cx="8280360" cy="46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rank-Starling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границама срце ће испумпати сву крв која у њега дође, не дозвољавајући да се превелика количина крви накупља у вен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Код повећаног дотока крв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чани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ишић се више истегне а истегнути мишић (у физиолошким границама) ће се контраховати јачом силом, зато што су онда актински и миозински филаменти у оптималном степену преклапања за развој контра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Истезање зида десне преткоморе повећава срчану фреквенцију чак за 10-2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200" spc="-1" strike="noStrike">
                <a:solidFill>
                  <a:srgbClr val="000000"/>
                </a:solidFill>
                <a:latin typeface="Arial"/>
              </a:rPr>
              <a:t>2.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нервни систем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атички н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) парасимпатички нер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нтролишу фреквенцију и снаге срчане контракције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"/>
          <p:cNvSpPr/>
          <p:nvPr/>
        </p:nvSpPr>
        <p:spPr>
          <a:xfrm>
            <a:off x="1116000" y="69228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</a:rPr>
              <a:t>Фактори који утичу на фреквенцију срц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1835280" y="1341360"/>
            <a:ext cx="532908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4"/>
          <p:cNvSpPr/>
          <p:nvPr/>
        </p:nvSpPr>
        <p:spPr>
          <a:xfrm>
            <a:off x="468360" y="76500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Основни путеви медуларне контроле фреквенције срца вагусним нер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302080" cy="419580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4"/>
          <p:cNvSpPr/>
          <p:nvPr/>
        </p:nvSpPr>
        <p:spPr>
          <a:xfrm>
            <a:off x="250920" y="436572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еурони из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cleus trac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solitarii (NTS)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лазе до срчаних преганглијских парасимпатичких неурона, и побуђују их, најпре 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nucleus ambiguus-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ки се такође налазе у дорзалним моторним једрима вагу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ђутим, ово једро углавном садржи моторне неуроне вагуса који долазе до гастроинтестиналног тра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"/>
          <p:cNvSpPr/>
          <p:nvPr/>
        </p:nvSpPr>
        <p:spPr>
          <a:xfrm>
            <a:off x="4859280" y="5950080"/>
            <a:ext cx="457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Легенда: AP, </a:t>
            </a:r>
            <a:r>
              <a:rPr b="0" i="1" lang="ru-RU" sz="1300" spc="-1" strike="noStrike">
                <a:solidFill>
                  <a:srgbClr val="000000"/>
                </a:solidFill>
                <a:latin typeface="Arial"/>
              </a:rPr>
              <a:t>area postrema; Pyr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пирамидални пут;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XII, </a:t>
            </a:r>
            <a:r>
              <a:rPr b="0" lang="sr-CS" sz="1300" spc="-1" strike="noStrike">
                <a:solidFill>
                  <a:srgbClr val="000000"/>
                </a:solidFill>
                <a:latin typeface="Arial"/>
              </a:rPr>
              <a:t>једро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hypoglossus-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3"/>
          <p:cNvSpPr/>
          <p:nvPr/>
        </p:nvSpPr>
        <p:spPr>
          <a:xfrm>
            <a:off x="468360" y="206064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је два типа преткоморских рецептора на истезањ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окидају импулсе првенствено током систоле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 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првенствено окидају импулсе у касној дијастоли (преткоморе су максимално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ене крвљ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идање импулса барорецептор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ипа Б се повећава када расте венски прилив у срце, а смањује под утицајем позитивног притиска током дисања, што указује на то да се ови барорецептори активирају пре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ега истезањем зидова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цептори на ендокардијалним површинама комора активирају се током истеза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ед тога настају вагална брадикардија и хипотензија (слично барорецепторском рефлекс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цептори на истезање леве коморе могу да имају значајну улогу у регулацији вагусног тонуса, који одржава нижу фреквенцију срца током миро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900000" y="765000"/>
            <a:ext cx="709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Arial"/>
              </a:rPr>
              <a:t>ПРЕТКОМОРСКИ РЕЦЕПТОРИ НА ИСТЕЗАЊЕ И КАРДИОПУЛМОНАЛНИ РЕЦЕПТО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4"/>
          <p:cNvSpPr/>
          <p:nvPr/>
        </p:nvSpPr>
        <p:spPr>
          <a:xfrm>
            <a:off x="826920" y="476280"/>
            <a:ext cx="72486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Утицај различитог степена стимулације симпатикуса и парасимпатикуса на криву минутног волумена ср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4608360" y="1628640"/>
            <a:ext cx="4535640" cy="42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а слици се налазе криве које приказују однос између притиска у десној преткомори и количине крви коју лева комора у току једног минута упумпа у аор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Може се уочити да при било којој вредности притиска у десној преткомори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повећана стимулација симпатикуса повећава минутни волумен срца, а повећана стимулација парасимпатикуса га смању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омене минутног волумена срца које настају збох стимулације нерава дешавају се због промена у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фреквенцији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у јачини контракције срц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јер се оба фактора мењају под утицајем нервне стимул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2" descr="Ð¡ÑÐ¾Ð´Ð½Ð° ÑÐ»Ð¸ÐºÐ°"/>
          <p:cNvPicPr/>
          <p:nvPr/>
        </p:nvPicPr>
        <p:blipFill>
          <a:blip r:embed="rId1"/>
          <a:srcRect l="17714" t="17452" r="22439" b="0"/>
          <a:stretch/>
        </p:blipFill>
        <p:spPr>
          <a:xfrm>
            <a:off x="0" y="1413000"/>
            <a:ext cx="4608360" cy="453528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4"/>
          <p:cNvSpPr/>
          <p:nvPr/>
        </p:nvSpPr>
        <p:spPr>
          <a:xfrm>
            <a:off x="900000" y="5589720"/>
            <a:ext cx="33847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тисак у десној преткомори (mmH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"/>
          <p:cNvSpPr/>
          <p:nvPr/>
        </p:nvSpPr>
        <p:spPr>
          <a:xfrm rot="16200000">
            <a:off x="-855720" y="3167280"/>
            <a:ext cx="252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нутни волумен (L/mi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755640" y="79956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7030a0"/>
                </a:solidFill>
                <a:latin typeface="Arial"/>
              </a:rPr>
              <a:t>Аутономни ефекти на срцу</a:t>
            </a:r>
            <a:r>
              <a:rPr b="0" lang="en-US" sz="32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Diagram 4" descr=""/>
          <p:cNvPicPr/>
          <p:nvPr/>
        </p:nvPicPr>
        <p:blipFill>
          <a:blip r:embed="rId1"/>
          <a:stretch/>
        </p:blipFill>
        <p:spPr>
          <a:xfrm>
            <a:off x="1463760" y="2054160"/>
            <a:ext cx="6119640" cy="40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2"/>
          <p:cNvSpPr/>
          <p:nvPr/>
        </p:nvSpPr>
        <p:spPr>
          <a:xfrm>
            <a:off x="152280" y="667440"/>
            <a:ext cx="8991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Хрон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воде до промена срчаног рит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е 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 настаје 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ањења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хрон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ња брз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чаног рит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еквенције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њем брзине окид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кционих потенцијала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152280" y="359640"/>
            <a:ext cx="8991720" cy="47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Дромотропни еф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 промене у брзини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о у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гативни дромотропни ефекат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 смањење брзине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рава 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ђење 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 и продуж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зитивни дромотропни ефекат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едставља повећање брзине 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брзава се провођ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х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ора и скраћ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1017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6"/>
          <p:cNvSpPr/>
          <p:nvPr/>
        </p:nvSpPr>
        <p:spPr>
          <a:xfrm>
            <a:off x="684360" y="5732640"/>
            <a:ext cx="36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Ритмички акциони потенцијал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mV)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ркињевог влакна и мишићног влакна комора, регистровани помоћу електрод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4572000" y="2924280"/>
            <a:ext cx="424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ровни мембрански потенцијал у срчаном мишићу износи -85 д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95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V, а у специјализованим Пуркињевим влакнима око -90 до -100 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1692360" y="907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Мембрански потенцијал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и</a:t>
            </a:r>
            <a:r>
              <a:rPr b="1" lang="en-US" sz="2000" spc="-1" strike="noStrike">
                <a:solidFill>
                  <a:srgbClr val="7030a0"/>
                </a:solidFill>
                <a:latin typeface="Arial"/>
              </a:rPr>
              <a:t> у срчаном мишић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Ð¡ÑÐ¾Ð´Ð½Ð° ÑÐ»Ð¸ÐºÐ°"/>
          <p:cNvPicPr/>
          <p:nvPr/>
        </p:nvPicPr>
        <p:blipFill>
          <a:blip r:embed="rId1"/>
          <a:srcRect l="16538" t="21651" r="22828" b="2749"/>
          <a:stretch/>
        </p:blipFill>
        <p:spPr>
          <a:xfrm>
            <a:off x="324000" y="1700280"/>
            <a:ext cx="4032000" cy="39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611280" y="1265040"/>
            <a:ext cx="777240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арасимпатички ефекти на фреквенцију срца и брзину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коморе 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вор им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асимпатичку вагусну инерв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 је коморе не поседу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отрансмитер је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цетилхолин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(ACh)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се везује з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холиноцепторе пејсмејкерских ће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2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250920" y="476280"/>
            <a:ext cx="8497800" cy="55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Негативни хрон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ањује се фреквенција срц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дужењем трајања фазе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њи број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акционих потенцијала се јавља у јединици времена јер се праг потенцијала достиже спорије 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ђ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7030a0"/>
                </a:solidFill>
                <a:latin typeface="Arial"/>
              </a:rPr>
              <a:t>Механизам негативног хронотропног еф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1. смањен улазак позитивних јо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ом фазе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спорије се достиже праг окидањ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2. повећане пропустљивости мембране з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 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, бржи и/или већи излазак јо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 +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e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ативност унутар влак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перполаризаци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ед хиперполаризације спорије се достиже праг окид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 синусном чвору стање хиперполаризације смањује потенцијал “мировања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чво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на негативнију вредност на -65 до -7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(уместо на -55 до -6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бог т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почетно повећање мембранског потенцијала синусног чвора узроковано цурењем јона натријума кроз мембрану траје дуже, док потенцијал не достигне праг за раздражење (успорава се ритмичност нодалних влака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"/>
          <p:cNvSpPr/>
          <p:nvPr/>
        </p:nvSpPr>
        <p:spPr>
          <a:xfrm>
            <a:off x="324000" y="765000"/>
            <a:ext cx="856908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Нега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ује се брзина провође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родужава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преносе спор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 преткомора до ком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ханиз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мањен улазак позитивних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ћелију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н излазак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916360" y="4292640"/>
            <a:ext cx="430200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250920" y="850680"/>
            <a:ext cx="8893080" cy="12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Симпатички ефекти на фреквенцију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и брзину провођ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3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- неуротрансмитер је </a:t>
            </a:r>
            <a:r>
              <a:rPr b="1" lang="sr-CS" sz="1900" spc="-1" strike="noStrike">
                <a:solidFill>
                  <a:srgbClr val="000000"/>
                </a:solidFill>
                <a:latin typeface="Arial"/>
              </a:rPr>
              <a:t>норадреналин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 који се везује за</a:t>
            </a: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адрено</a:t>
            </a:r>
            <a:r>
              <a:rPr b="0" lang="sr-CS" sz="1900" spc="-1" strike="noStrike">
                <a:solidFill>
                  <a:srgbClr val="000000"/>
                </a:solidFill>
                <a:latin typeface="Arial"/>
              </a:rPr>
              <a:t>цептор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79280" y="2492280"/>
            <a:ext cx="87854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7030a0"/>
                </a:solidFill>
                <a:latin typeface="Arial"/>
              </a:rPr>
              <a:t>Позитивни хронотропни ефек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брзава се фреквенциј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рц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аћењем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фа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4 (брже се достиже праг окидања - нагиб препотенцијала је већ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 акционих потенцијала се јавља у јединици врем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р се праговни потенцијал достиже брже а самим тим и чеш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ханиз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Arial"/>
              </a:rPr>
              <a:t>- повећан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лазак позитивних натријумових јо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 су одговорни за фаз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стабилног мировног потенцијал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о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843280" y="4624560"/>
            <a:ext cx="430380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468360" y="1052640"/>
            <a:ext cx="7920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ни дромотропн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већава брзину провођења кроз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AV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краћује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PR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нтерв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и с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де брже од преткомора до комора тако да пуњење комора може бити смање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ханиз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- повећан улазак позитивних јона кал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з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1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тр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 (повећана проводљивост з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и смањене проводљивости за К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rcRect l="11805" t="0" r="0" b="0"/>
          <a:stretch/>
        </p:blipFill>
        <p:spPr>
          <a:xfrm>
            <a:off x="2916360" y="4292640"/>
            <a:ext cx="4302000" cy="223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395280" y="875520"/>
            <a:ext cx="8497800" cy="49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7030a0"/>
                </a:solidFill>
                <a:latin typeface="Arial"/>
              </a:rPr>
              <a:t>K</a:t>
            </a:r>
            <a:r>
              <a:rPr b="1" lang="sr-CS" sz="2800" spc="-1" strike="noStrike">
                <a:solidFill>
                  <a:srgbClr val="7030a0"/>
                </a:solidFill>
                <a:latin typeface="Arial"/>
              </a:rPr>
              <a:t>онтрактил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 унутрашње својство срчаног мишића да развије силу за дату дужину миши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sr-CS" sz="1800" spc="-1" strike="noStrike">
                <a:solidFill>
                  <a:srgbClr val="7030a0"/>
                </a:solidFill>
                <a:latin typeface="Arial"/>
              </a:rPr>
              <a:t>инотропиза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 од интрацелуларне концентр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интрацелуларни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i="1" lang="sr-Latn-CS" sz="16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у срчаном мишићу потиче једним делом из екстрацелуларног простора а другим делом из саркоплазматског ретикулум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 да се проце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о ејекционе фрак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дар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н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стол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олум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а нормално износ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0.55 (5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7030a0"/>
                </a:solidFill>
                <a:latin typeface="Arial"/>
              </a:rPr>
              <a:t>Инотропни ефек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зитивни инотропни факт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ју повећ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гативни инотропни факто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ју смањ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тил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24000" y="1003320"/>
            <a:ext cx="86407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ан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a. 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Повећање фреквенције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 се више акционих потенцијала јави у јединици вре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и 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ишић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ћелије срца током фазе платоа акционог потенција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 ослобађа из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 већи је и напон који се развија током контра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 повећана срчана фреквенција повећава постепено силу контракције у оној мери колико се интрацелуларна концентра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умулативно током неколико откуцаја ср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с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кстрасистол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тенцијациј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ракција која се јавља после екстрасистоле има већу силу усл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"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sr-C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 улази у ћелије током екстрасист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324000" y="1552320"/>
            <a:ext cx="864072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ан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б. Симпатичка стимулација (катехоламини) преко β1 рецеп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ећава снагу контракције преко два механиз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ње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1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ћелију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ом плато фазе сваког акционог потенцијал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њем активнос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мп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R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сфорилацијом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осфоламба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;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 резултира у већој акумулациј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SR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на тај начин је виш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ступно за ослобађање у наредном пери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3"/>
          <p:cNvSpPr/>
          <p:nvPr/>
        </p:nvSpPr>
        <p:spPr>
          <a:xfrm>
            <a:off x="250920" y="1916280"/>
            <a:ext cx="88930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ц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. 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Кардиотонични гликозиди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 (</a:t>
            </a: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дигиталис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ћавају снагу контракције на тај начин што инхибирају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ATP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зу на мемб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чаних 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 резултат ове инхиби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рацелулар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ација јо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 повећа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њујући градијен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оз ћелијску мембра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 3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ханизам којим с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C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избацу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 ћел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иси од величине градијента 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у да је смањен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е повећањ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рацелуларног калциј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179280" y="836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повећава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позитиван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Ð ÐµÐ·ÑÐ»ÑÐ°Ñ ÑÐ»Ð¸ÐºÐ° Ð·Ð° digitalis mechanism"/>
          <p:cNvPicPr/>
          <p:nvPr/>
        </p:nvPicPr>
        <p:blipFill>
          <a:blip r:embed="rId1"/>
          <a:stretch/>
        </p:blipFill>
        <p:spPr>
          <a:xfrm>
            <a:off x="3203640" y="4149720"/>
            <a:ext cx="4021200" cy="252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3"/>
          <p:cNvSpPr/>
          <p:nvPr/>
        </p:nvSpPr>
        <p:spPr>
          <a:xfrm>
            <a:off x="250920" y="1916280"/>
            <a:ext cx="8893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Парасимпатичка стимулација</a:t>
            </a:r>
            <a:r>
              <a:rPr b="1" lang="sr-Latn-CS" sz="2000" spc="-1" strike="noStrike">
                <a:solidFill>
                  <a:srgbClr val="7030a0"/>
                </a:solidFill>
                <a:latin typeface="Arial"/>
              </a:rPr>
              <a:t> (Ac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Када је фреквенција срчаног рада ниска, улазак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је све време мањи, остављајући довољно времена за излазак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између акционих потенциј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росечна концентрација Ca</a:t>
            </a:r>
            <a:r>
              <a:rPr b="0" lang="sr-Latn-C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у цитосолу се смањује и контрактилност је н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Парасимпатичка влакна испољавају негативан инотропан ефекат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фреквенцијски инотропизам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само преко овог </a:t>
            </a:r>
            <a:r>
              <a:rPr b="0" i="1" lang="sr-Latn-CS" sz="2000" spc="-1" strike="noStrike">
                <a:solidFill>
                  <a:srgbClr val="000000"/>
                </a:solidFill>
                <a:latin typeface="Arial"/>
              </a:rPr>
              <a:t>индирект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механ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179280" y="8366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Фактори који смањују контрактилнос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5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(</a:t>
            </a: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негативни инотропни ефекат</a:t>
            </a:r>
            <a:r>
              <a:rPr b="1" lang="sr-Latn-CS" sz="2400" spc="-1" strike="noStrike">
                <a:solidFill>
                  <a:srgbClr val="7030a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7030a0"/>
                </a:solidFill>
                <a:latin typeface="Arial"/>
              </a:rPr>
              <a:t>Акциони потенцијали с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8960" y="1484280"/>
            <a:ext cx="850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оје разлике у изгледу акционих потенцијала у појединим деловима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упадљивија карактеристика акционог потенцијала кардиомиоцита преткомора, комора и Пуркињеових влакана је постојање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лато фазе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след чега контракција срчаног мишића трај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15 пут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уже у односу на скелетни миши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4038480" cy="2967120"/>
          </a:xfrm>
          <a:prstGeom prst="rect">
            <a:avLst/>
          </a:prstGeom>
          <a:ln w="0">
            <a:noFill/>
          </a:ln>
        </p:spPr>
      </p:pic>
      <p:cxnSp>
        <p:nvCxnSpPr>
          <p:cNvPr id="77" name="Straight Arrow Connector 6"/>
          <p:cNvCxnSpPr/>
          <p:nvPr/>
        </p:nvCxnSpPr>
        <p:spPr>
          <a:xfrm flipH="1">
            <a:off x="4715640" y="3212640"/>
            <a:ext cx="1151640" cy="6483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78" name="Rectangle 9"/>
          <p:cNvSpPr/>
          <p:nvPr/>
        </p:nvSpPr>
        <p:spPr>
          <a:xfrm>
            <a:off x="5943600" y="30686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плато фа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rcRect l="18538" t="47859" r="57949" b="25566"/>
          <a:stretch/>
        </p:blipFill>
        <p:spPr>
          <a:xfrm>
            <a:off x="755640" y="4149720"/>
            <a:ext cx="3492360" cy="2232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"/>
          <p:cNvPicPr/>
          <p:nvPr/>
        </p:nvPicPr>
        <p:blipFill>
          <a:blip r:embed="rId2"/>
          <a:srcRect l="18538" t="47859" r="33045" b="25566"/>
          <a:stretch/>
        </p:blipFill>
        <p:spPr>
          <a:xfrm>
            <a:off x="755640" y="1989000"/>
            <a:ext cx="7704000" cy="20876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"/>
          <p:cNvPicPr/>
          <p:nvPr/>
        </p:nvPicPr>
        <p:blipFill>
          <a:blip r:embed="rId3"/>
          <a:srcRect l="66958" t="47859" r="4538" b="25566"/>
          <a:stretch/>
        </p:blipFill>
        <p:spPr>
          <a:xfrm>
            <a:off x="4211640" y="4149720"/>
            <a:ext cx="4259160" cy="223200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029"/>
          <p:cNvSpPr/>
          <p:nvPr/>
        </p:nvSpPr>
        <p:spPr>
          <a:xfrm>
            <a:off x="1209960" y="404640"/>
            <a:ext cx="617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ФЕКТИ НА СР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- Табелар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приказ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476720" y="620640"/>
            <a:ext cx="58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7030a0"/>
                </a:solidFill>
                <a:latin typeface="Arial"/>
              </a:rPr>
              <a:t>Акциони потенциј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7030a0"/>
                </a:solidFill>
                <a:uFillTx/>
                <a:latin typeface="Arial"/>
              </a:rPr>
              <a:t>комора, преткомора и Пуркињеовог систе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324000" y="1478520"/>
            <a:ext cx="84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ју мировни мембрански потенцијал од ок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90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иливол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m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 вредност се приближава вредности равнотежног потенцијала 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циони потенцијали дуго тра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рочито 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уркињевим влакн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ко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0" y="3213000"/>
            <a:ext cx="5508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кциони потенцијал кардиомиоцита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реткомор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мор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Пуркињеових влакан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астоји се из следећих фа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0 – деполар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1 – почетна реполар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2 – плато ф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3 – реполариз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Фаза 4 – мировни мембрански потенциј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4859280" y="3573360"/>
            <a:ext cx="4040280" cy="296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Jovana Joksimovic</cp:lastModifiedBy>
  <dcterms:modified xsi:type="dcterms:W3CDTF">2024-02-20T12:45:53Z</dcterms:modified>
  <cp:revision>108</cp:revision>
  <dc:subject/>
  <dc:title>Физиологија срца</dc:title>
</cp:coreProperties>
</file>